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045-99B8-4FED-B175-FE448DF3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AE2-FAFB-492E-8B91-DD642E0C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3F431-F0CF-4F82-82C7-EC2F59EF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895D4-67D4-4420-841B-3D2EB4F0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09AB6-776F-4684-B8BA-A8FF27CD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478A1-987B-4889-A06F-56C623B5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1356A-EEA2-41FB-AE24-D7192E8E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9D1E0-FE86-426F-9C33-460C97AB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DCD16-72F3-410F-ADBB-3F527E57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31B7E-BA6A-4D10-9C0B-7681551B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B3410-4F6C-4D79-A935-2466DCFD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509C7-FC95-4C95-AFFC-164DD164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834-4FE9-42FB-9F96-561D3DA4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909A0-7772-45C9-BEC2-059228E6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0778E-820F-4158-98EE-52A7BE14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EEA2E-D107-419E-9EA8-9DA777CC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69A55-2977-4FDA-9F4F-7ADA3588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10FC1-E207-4102-AD10-7A295507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F0F2B-06F2-4262-966F-CE892179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26DFD-4F71-4701-A523-C5D8B7FE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A93E9-7475-4B92-84C3-E2A72183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F0CAA-0E09-41B7-947F-F3DDBA04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D26AF-6F6E-4CA5-A610-7DAFB8C3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8EB-EC29-4BF4-94FA-CB947972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B5DE8-7E9D-4D1E-BAF1-4344445D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68020-6274-47E3-9A3C-6AAAC414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68CBF-F773-45BE-9C0B-311493D6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1EC76-9D35-41FD-8F17-5A4400BB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B694F-FAEE-4D15-BF1B-51832A9A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696EC-17A3-4D07-BBCB-91FA5F27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B9341-2C48-4FD9-BCE2-1185F3BD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22740-F22B-47DC-A2E7-71F1FF25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839AE-6B8C-47F4-8390-50E021F1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0E117-22C9-4163-B4B4-B3F94E98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1D85-F5EE-4D05-AE86-59C9ACED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D6BA4-B4C5-408E-8C64-25D212F2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D7548-C32E-48E2-B842-EC7C8F02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0FB29-B532-47C0-B006-047612D9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18018-1D41-42AD-BEB7-EF33ADD9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AF24D-87E5-4425-B656-61502EB5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E7E70-E580-4353-99B2-066356A4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EB6BA-2699-43A3-985B-2D0990C5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26BE3-96DD-421F-AB1A-358DCD1B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71BB9-CB20-4489-9C2C-4B97FEF9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96C39-B890-4FE0-B59B-674B54A6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9C08-8E7C-4ED4-80B0-C479E212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FCD00-3BAC-4687-9DE1-62E306E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BD214-CAE7-4E2B-A649-000C6588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2AC15-09D6-4757-9FF2-CEA6B3A3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DD73E-732B-4294-BAF6-48BCAB88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DA92D-D101-4DEF-96C6-5919DD80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DB0D-ADBF-4BCB-9FE4-274F639B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2D08-2F3E-4783-9E95-CD89D853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F9B0-5976-40DA-9BE4-36E00C75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26DA-46B4-4287-8F85-197C4910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AED2-6A16-4EB6-ABC5-2E2BC98C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816-AD74-4D70-BE86-0363EAD2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9D4B-862A-4E06-8D34-CD9A52E7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5D5B-0753-4402-B3D9-B8DBE447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D179-658B-4BA3-AC12-39597A35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E0F6-3456-45E0-8A6D-3BA7347E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010B-61F6-47E5-BE3C-54E6AC6C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B954-ABA2-499D-9463-464F1985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35D3-C705-44D2-973D-4A82510F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16DD-A3CF-4AB1-B021-99E49CE0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FB74F-1644-492C-89FC-58A0FFBA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ACB88-3A75-4311-A61D-1715E3B9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E10-055A-4D2B-B9C0-811321D7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CDBD-9BD9-4B1C-A216-41361F63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FF41-66B3-4871-ACA7-402BDB8E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642B0-337A-4C5B-B09E-3F11EC48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37A89-B02E-43FA-95B7-ACBE7CC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F669-1ED7-4C88-85E3-E355AD79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D6DDC-BDFA-4D9E-9322-5B753914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B81EF-B5D9-42F6-A14C-355D3F5F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99AE9-C667-42FC-A826-94CAE88F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A1A04-C457-4423-92B1-5153AC7E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8BEDA-4212-4752-8CB2-A3243375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A8C-9B4F-4B39-AD3D-8E5A4E95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6F95B-222A-4A44-BF7F-EA9A1668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DF751-9B86-4C4F-B7D2-3AC3789D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8D786-376A-4F57-8CE2-72A562EC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66A9C-CE44-40A1-8D32-B38A77BB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8167-7EFE-4C53-8E75-4442223D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2E825-DFEC-4C54-9E3A-B54228D7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15208-A6EF-45EF-B754-EAA53A4F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93181-AB94-4545-A389-21FF0CE8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83FA7-6DFE-40E4-9DEA-D81EE713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E216E-9B47-4DCF-A734-45A07EC0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CEB-A550-4DA1-80DC-BB512169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CBB66-D563-4490-A388-8B4837A3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0E30E-AB7C-4366-A161-57B16945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1B312-70F1-40DA-8785-68EF0438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6CCF8-08E9-4927-A042-E9B33272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A3550-E569-4275-B489-34E7057D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B23F6-2DD4-4B0C-9692-F757FFA8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82E54-7B43-416E-ACAE-F4C01459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02BAF-E70F-4C4C-97F7-9995C570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6A6E6-19AC-4B66-B803-29BC7DB9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8066C-E150-44B1-A9D6-DFB5A1E0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E60-D91F-4C81-BCA7-1BDF7E72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577F1-BBFE-4EC3-B0C8-C97CE663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DD652-ED74-41A3-834E-16697065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6A809-3CF7-4F98-904A-524C8ED1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EB6CA-2ED7-4796-AD01-4985A3F4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3188D-E52E-4DAF-8C6F-5FBDEF7B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8C4A0-3812-42F5-83C4-A434EA18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18F16-99C9-4BC0-A071-9C649294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45597-0F45-4206-9931-A97326E5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2BB3C-B00C-4C49-A78C-EF29395B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28595-70B0-4730-90E4-0593E36E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1A1-AC68-4303-A537-1C684639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71817-1BF7-4E20-B9EC-E302EB00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611E2-0039-4F62-AAFF-5ECB6C43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AF1D5-F87D-4F42-A6B3-F9B1C2D8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AB027-5566-4D03-B37B-8D3EC74D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19285-5234-484A-B18C-18FF645D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DD906-EFF2-4FC3-BB6E-80568A1A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56446-56F5-41C9-9A01-99246593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02E59-D590-4229-915B-BA35BA80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5EE0D-E7DE-4507-BDF6-4C26F1DE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78341-2D14-498C-BE93-4DECC5ED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005-2266-4CA0-8962-A775BC7E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351C4-A11B-443D-8B7D-0A19846F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D96C9-E029-4352-88B7-A75AE3F1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3376F-4915-467D-A288-73276A8D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2489D-F481-4795-892C-4D7E2577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E9118-CEF3-47D6-B205-829F1470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61B5D-CB67-4C71-B2C5-9DCA447D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EE86D-3F1D-414C-9907-098EFC99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EC534-69CC-404C-9A5E-2B7D57F6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A9618-3162-4CAB-8653-EB8906D9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69185-4C22-461E-BBA0-2D51C28E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313-152B-4A34-A8D6-F706ECF3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309BA-C660-4A05-A22E-40CAE65A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CCCDB-F50C-4FE1-9305-2CEBDDB1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EA4BB-B8B1-4753-9629-D7758F0F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C4539-A9C1-453F-9DA1-A18EE224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1AB2E-4DFA-4B34-99A5-17D3FCCD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45C99-A79D-4B55-98A1-56157FC4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EFAE8-E77F-4E63-BAF4-61E11A97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075C9-94A2-40B5-9937-3CAA2429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13477-94DD-4074-8C7C-A5F00AC2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BE66E-ABFA-420C-A755-B52B520C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5A5D-75F6-4655-98AF-279E2460DA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7BE7-6558-4577-A97D-5C571AB82D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D930-6827-4F69-96E4-DB44E21563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130B-EE70-4490-8065-7F10293E910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EC30-87EC-4B98-8CA7-A85751235C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C185-BBD5-42FD-87B4-E8333457312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06A5-7287-4F77-A75D-5CC692F8BC1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1415-9D17-4EB9-A17D-D5CC8270D9D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537D-5C4E-40AC-AC6E-E588ADCB53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134B-A353-4411-B7B5-D2EC1C405E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D2B0-904B-4A25-AF07-C9003861E8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F66B-6458-4335-B076-1F37302EEE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97 Všade tam, kde smútok vlád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tvoj blížny poč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už príde Kristus, Kr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sme všetci hotov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ať mu slávu piesňou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de šír pokoj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žnym slúž 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tuj Krista kým je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hce spasiť všetkých ná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šade tam, kde smútok vlád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lásku rozdáv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cť strápeným a biedny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žiadnej chvíli neváh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žno pár slov láskav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tačí a blížny tv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jme Božiu spásnu 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duši stíchne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de šír pokoj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žnym slúž 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tuj Krista kým je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hce spasiť všetkých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ležitosť nepremešk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 všade v pravý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láskou slú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vždy bez presta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ôkol šír len radosť,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vete je plno bi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estí a trápenia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lesajúcich pozdvihu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na cestu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de šír pokoj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žnym slúž 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tuj Krista kým je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hce spasiť všetkých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vny, čo tvoj Pán ti zver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odenne rozmnožu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akrátko už sa vrá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ú zvesť oznamu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3:43:46Z</dcterms:modified>
  <cp:revision>22</cp:revision>
  <dc:subject/>
  <dc:title>Je veľký náš Pán, on slávy je Kráľ Nech do všetkých strán  spev vrúcnych znie chvál.</dc:title>
</cp:coreProperties>
</file>